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0D6-2AB7-4055-AE76-72B7B858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5C3-E8E7-4B85-BB2A-C9B91122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0535C-1475-4C86-BEA7-A21CBB1D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27297-6CF1-4C84-88FE-4A7976AA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DA2CB-132C-44E6-85FC-008B56C7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BFAF8-924E-41C7-A2D2-7FC64825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953D5-2A37-4F33-B34C-20D127ED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85A5E-0864-4732-BAF3-B3593783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538EE-A8B9-46F2-9C40-4412341B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2180F-6ACC-45F4-B041-9F48AD10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7D9E3-4D8F-47B8-8F7B-D1B36B53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84556-B99A-484A-8056-877E8780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4A2-6A0A-4FCE-875B-153F1AFD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3F393-A8AF-47C3-BB44-8505384A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2B2A3-197D-40D4-AAE6-07152318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44FC4-F0EC-4FD8-B85B-B0293C96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F924C-221C-43C8-8C26-CC1D1064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53A21-BE9B-4D25-BBF4-A3D636D3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2F629-AA8D-4523-A69F-5D2A0AB1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A6E59-DDFC-4E55-8865-7E725D3C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8E8E0-F9D0-4F75-87E5-AFB1F9F3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50FA5-BFA9-4680-B736-13F251E0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2C806-15A7-4AA2-8D25-A460ABC1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EAF-2FB7-4E02-8A32-18305F61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B6F9C-2C64-4170-93FF-8256C5F2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AB92-27C5-4C4E-BDB4-3914EFF6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A81AF-4C9B-44B5-B37A-19C00272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BC4E6-8AE5-40A4-9677-A48E9A30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62AE4-7291-4374-B1C0-EE43EFFB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AAD70-AB08-45F3-AC5F-6CBB35F8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36272-493C-45A0-9598-212B99A3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A3550-4CF2-4641-86E0-F8F9C64A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1D6BB-7C31-4327-AF31-274C1902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0645C-7843-4512-A53A-F2798AAD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9B79-EFC0-4A57-93D8-0EEF4AC2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B9209-69CD-4259-9644-9D0B43C4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ABF67-51B9-4860-9BCE-D498CFFC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ED7B9-FDF0-4939-A0A0-17540D72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2730B-13C2-49C1-88EF-DBBBD7C4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C5211-3451-4956-B2E5-09BCD0A5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D65A6-2D2B-4314-9D55-03952369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A41A7-71C5-49D1-A10B-6B5A5397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971F3-8345-4562-8FCF-AF61AE4B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B1B06-BD85-4CFA-B3E2-F67C61A2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0B78F-BBA2-405F-B9CF-797916DF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F7DA-B143-4759-B1FE-92B6D2E7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F96AF-2340-4A12-987C-A2AF5AD2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8352C-69DD-436F-81D0-9A40B9A7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0494F-4BF1-4099-B4E3-475A946D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FCF46-4F1E-42CB-AC27-CE1315C2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F8FE8-ADB3-4458-8F06-E6CC4CA8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9A32C-4B47-4E08-B77A-31BB888A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AA9C8-EC23-4523-AF6A-E3D8C0D7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57610-E8BB-42C8-9098-ADF76DC6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CCB01-ADAD-4239-8EE5-B222AB7A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55F1A-1964-4B34-ACAD-C4123ACD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EF46-782C-40A7-9BD9-5888BF61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C02AF-CCFB-4395-8441-2B79C2CC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C1E06-303B-4555-A551-BD41ABE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86CCE-56FB-4982-81D0-E2FDE651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EC8DA-43C5-4914-865D-4414F6B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5E051-AB10-4B2A-89C0-5A5CDB8E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BBED9-151A-4A86-B7EC-72B0CC97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44E54-D3DB-4D34-AB29-9C49AC71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DF0C3-10F1-4726-89EC-70ACC802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B91E8-D45B-4F9C-803A-3521A995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7322B-D5AC-4CFF-A853-896DB278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A5E3-B4B4-4991-8C25-62D9CC92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012E7-3ABC-469F-A26A-61F14297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B778C-3A11-4D21-964E-C2A935A5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581A1-FD38-4457-BE6F-618172CA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AAA2E-0E18-4CF1-A617-B45168AD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639D2-DD7E-4D03-ADA4-F9079DF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AAB91-97B5-4029-A0FD-E8E474AC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A8B12-E878-4F06-9B87-C87C4B78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17A2B-29D9-4DA0-8729-4455D2DA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B8789-F4D5-4C17-B639-BF4D467C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5FC3E-6A0C-4EBE-B997-8C60ECBB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0148-32FA-491C-987A-406C4F51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B7F75-126C-42C9-A5F2-2AC57CE3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A9CF0-5C2B-4F9C-8083-476445D1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EB097-0166-4543-9567-BCFDEF12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8E65E2-9334-4E31-BD97-44E7F5AB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669E0-E192-4778-8FDB-5D9DE6F1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8F279-B3E3-4542-AEE8-E377973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E0BD2-DAC2-4DB9-9905-A74457A0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ABF08-41D5-47CD-A98F-A77B30E9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FE117-B68B-4EF7-9448-4197964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53763-454A-455F-9AF9-58509AE7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ACB0-F4DA-44B1-B3A3-7FC5D272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7F6DF-C039-415F-A9D9-6AC0B9F6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9FEB84-EAC1-4E22-B747-3B1725DC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15FDA-2E55-4ABA-A062-AF3BDBF9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C41FB-1B73-46D4-8509-18C3C707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4752F-CB6D-4B9E-B3D3-E8502CC2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1B737-3C37-4075-957C-2C5A7F98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2DE16-1125-493A-B8DF-69C47B01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9E1CF-CA85-4D94-A032-EEC16721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6070C-E0DD-47C0-8D3B-E0F421B2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517B9-98D6-49D9-9DB7-451EB404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908E-CEBE-4AAE-9F7C-C0301B40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4511B5-325F-45A0-9F43-D71518A7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8A5A4-7AA8-49AB-9BE5-943DBC9B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53D87-13E8-4D5B-807F-647631A9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663472-C1D7-41DD-9486-8F97B6B9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85180-D335-4157-958D-BE931F54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A061E-D898-418E-B8DE-33EDBCCB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E72DD-2499-43FE-897F-F57C77B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6F870-2E72-4E01-AB75-4FA8CEDE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BB471-9EBF-4608-BEC6-5F297A1F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22FCFD-91A7-4F3A-A27A-89CEAC63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047-3352-4759-8C32-C0666E75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65B6-EF86-4708-A460-368631E1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8E9380-4DB2-428F-9C0E-138F7CE3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3668A-271A-43ED-A32C-A9D2DC5D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2D8F10-9316-4E75-A38F-4E745FAF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B4169-AA5A-46B1-8E7A-56C5CECE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C9F33-BEF3-4886-B475-B379F2E0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6D218-D690-458A-B701-4513DF89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97BF8B-4879-4E38-B25B-81F8ED8D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068C1-652D-42DF-8777-B1E6CA1D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E8EEB-CFF4-445E-B1B6-C81BFB54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2DC06E-AB65-4DF5-A7ED-FB692C3A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F6CE-A9CB-43BC-A1A1-A0D96BE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511589-BE8D-4FE8-BFA4-34653131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0FB2B-7050-46A3-8E42-8A00B2C7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B0955-0580-4B7B-8ED9-FAB4462E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CFA84-40CB-456C-838D-3195C2FB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B9410-B331-491A-890D-E7912152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5BACC8-ED0D-4FA7-BD79-C0847BA6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27467-3701-4C9F-A14A-1CAB86CD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EFEF9-E3A2-4873-AF5D-EE7ECA98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FDECCF-74A3-4235-9325-712EB309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63DDA-2CC2-4773-9F4B-E403FBDD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F97A-977A-4DE0-A98E-1F54BA59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4EC9C-3FD2-412D-B13B-610A3D21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14370-7126-46AA-875A-8871760C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6C4294-CB8B-4C17-89E5-A48B82DD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B5979A-3F49-4859-9702-85576702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A1130-2136-4665-95A4-34FF398D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0B563D-ABA0-43AE-84DB-AAAC62C8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A0E80-A522-4DFF-ACE7-299051F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1FF1AB-6E29-4239-B9E6-3E03A002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1FF42-F6C1-43BA-A110-DCE4914F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541EFE-4B42-49D1-9917-3CC99C14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9AAB-A125-408E-BD91-7DDB4C12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632356-53AC-43A8-8BA4-F0766114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058345-A285-4A29-8DC1-C48898F4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20987-3CB3-4B15-9EFE-14F098E7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753A95-A941-4448-B237-5B097577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D003A1-387C-4B51-A16C-461EF988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FB50E2-09F5-4516-A9EB-2FFEC71E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91D424-5E60-4505-84FA-704D5367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E87609-D2E2-4778-8934-0151C58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10F131-0795-4130-A3C4-DD476739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9DAFD6-2651-4FAB-A7D0-A37B6E12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39D1-039F-4EE1-B641-FF9BE950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0B92F-AE19-4B35-9AE9-DE880FA0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717326-35A3-4D1F-8121-508C33D6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195E08-E9C9-4710-BAAB-7E2AA4C9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594A36-0BCA-40CB-812B-E441A86B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A903D6-5852-4C11-BAEB-03322620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4DA074-0F4B-42FB-AF33-ED396E91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FEF08D-D45E-4DB8-9415-B89E22E8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CD8F8-ADB3-46C0-BC06-99B73A2D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2E2FE-40FD-4965-B3F5-332DCED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D91BC-E0E3-4898-9D4E-476A29C9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CFF65-D838-4322-9A98-81D92CB5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010D91-C122-4372-9B0C-6F5EBE48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80B66A-6C90-4F07-A288-08EC28F6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E05C5-2D91-4446-93A8-FF9D8FF6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733D3-8A55-4505-81BA-BE374D07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5C6DB-2692-4BA6-8C40-7BDC6EB3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00C0A-6CC7-46BA-A092-AA245AB2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92A5-F37B-48E7-B338-A2D4204C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6D1-70D7-4B05-9ECB-97ACB592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F18B-F549-45CF-ADB2-864DCE31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CC72-E8A1-4B70-B7EF-384460CD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3C86-F0FA-4A4F-93CF-6C84FDBA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8A888-4E8A-4743-AAD4-5193854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8A08-43CD-4B52-8360-CB242B26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AC6C9-1540-47D8-9C88-A7F083AD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04B1-7A40-467B-B66D-8777C15B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425A4-BBB5-4A14-9520-BB7BEC15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B89B0-723B-44F3-B536-0642EC60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83CC1-FC49-4515-926C-A9FACA33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D04-83BE-4D74-A05A-3CFE32B0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6971-1D8D-464D-896C-742E52FC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ACA5-04A7-437E-A2DE-1899B7D2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DBCEE-DE2C-430C-A805-95568D28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CF42-BA1B-44EB-9164-FA5B6AC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204FF-0AF3-41B2-8D50-1D67BD2F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11220-8212-4F21-B1AB-8A4DB1C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4B172-5762-49D8-ADBE-1DADE6D8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DC698-9A6B-48D0-A1C3-1634A124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D823-F2BC-40C5-AA09-2948B33E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877FA-5DFC-4D76-BDF2-52105E69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190-303F-4AAC-A681-E48AEC06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BD163-B1B2-46EA-8B54-FA7A9A47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27381-FC2B-435F-9090-882A8194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42382-9AF3-4F14-8CCF-1CA18A9C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E307-702D-49FA-9F16-7E745101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2BDF6-929B-4298-A56F-026E0D07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EEAA1-0C83-45AB-B544-CDFEF505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5E482-B22D-4CB4-B8FD-AAC1DBC7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49FA6-1C2D-4EFE-9537-27E1F50E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25B6C-80E2-419C-A6D8-43E33D59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129D0-CADE-457E-BB8F-6F903A07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F17-0967-4677-8DDD-3726727B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0AC9-99F1-479D-BB4F-55131CED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77FE2-9A4D-4A13-8D67-32B08FDD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F1113-6379-4DDA-803F-77595A6B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F86EF-35C0-4650-A689-F133001B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FBD9C-760D-4045-A706-67F97D9F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F3DD8-B39C-44D5-822E-79E5F99C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0B53A-A7AD-46A8-93C2-D648D39F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83AFD-4BDB-43A1-ACC5-E902F60C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7224B-5329-4C97-8629-0EAD9C9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AB0F3-4FCD-43D3-B425-F7B6672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0DB-3CDA-490D-8837-C430B6A9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6A74E-1AC7-4F17-9D1E-74ADB101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621B-3766-44EF-882D-89C66E1B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36E56-EE6C-442F-8618-1AEB0A8B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BAF76-B760-401E-9D60-B40C39D0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7EBFE-7C98-4707-835B-15ECBB50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3B089-9BA5-4464-BCA8-85385DA0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411B7-5CDB-4A40-B719-71CCE945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9C95D-BB5D-4EDA-8263-8774166F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2BCBF-EA20-4179-B89B-A479C5AF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8B6F5-34CB-44C9-A855-0949210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364-D9C7-4E82-92C2-83FF92B4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12B06-762C-40FC-879B-7C8EA342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E7203-1FFA-473F-8724-13C5D408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1A2C7-7773-44FE-BE98-A79E256A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754C1-A0F1-47D0-BF91-A2ACB28F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1D283-7429-40EE-B537-59E26F9A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AC340-2D94-4B01-BC49-1E760442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150E5-841E-4DCC-A11B-C793569E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939D0-267D-4A4F-91AF-56461D9D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C4548-81CF-46B8-896F-FF5D00CD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C483A-AC60-4FF0-94E6-C7285F10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600-B5CD-4917-9BAD-B48CDB6B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1176D-F1DD-4148-B002-E6807EEB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399E-DEC5-4AB1-BA04-0CA9E3BA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B5A29-F004-4B6D-B7C6-B3F3A2E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D72D1-E108-4A77-8FD7-D3AE1C06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C7A6-0BE3-4F87-840B-55C040AB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7ABAD-E5FB-4771-91E6-39332336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53D37-2E6C-4958-8AC4-C624202C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1DFCC-7E8E-4DA3-8394-D9EDF7EC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93339-06B4-4956-AD38-05D13785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6389C-DBBC-4BD1-AA3C-C0E8C044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94AE-5567-4A50-A5B9-E8FBBC8639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6AF9-7441-4ABF-A8D4-E30C6B9F57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80DD-7034-4CFD-A622-B5B5670C10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0EE1-3FB0-4771-963E-C35B96FA94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CF23-8CCD-47E0-8717-2176917626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AA6-EE91-48C5-A0B3-ECDBCD9416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E4B7-B666-431E-88D3-BED61001B0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FB9E-0CE4-4B2B-BF59-010E3C8B5A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644F-F5EA-4FED-A9A6-7A1163296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8C0-09D0-4FB2-9AB8-EE12E8AD29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EED6-190B-4516-8BA1-E081BE69D9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8647-486C-4863-9CC0-8DD972507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BD9F-0E4D-4150-93B9-C751BC84C3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6075-3607-477F-8E40-D9133D6747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6F20-2577-4877-BF31-889958F239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5930-89C0-4BD8-BEDF-E20ED15A5B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5A9E-05F1-42F3-B7D2-718CF4BBC5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B8A4-56CB-45BC-B397-8593E4C2AA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A99E-C5C2-4C8C-AA1B-CCC4E74F19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62CD-BBD8-434E-8B5B-0635EC2E0D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2F3E-DEBF-4268-B55F-0AF28BE642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9D6D-7FAA-4583-956B-32961D58B3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F66C-AD1C-4FD3-BC14-294C7F963E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E23B-E202-4298-9DE5-86617E139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618B-8017-4C16-A3F2-B627574EC4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4C93-E4EB-4F4F-8778-8D509F3E4B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3E8E-2A47-4FF5-99DA-288DE0866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0FB8-CF5D-468E-AFD1-248090AC64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6D53-1B4A-4D75-AC12-053A8EB388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16B6-371A-44BE-A643-2A40B0E50E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EC6D-D4BC-436D-8047-C13A440585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FBF5-E0FF-4087-9A10-EB42B86265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EA7-1AC3-4826-9117-C797B62241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31D0-26D6-47B0-8FCB-86FCE27846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6DC0-8A5F-4899-A67F-F54E528B72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F0CD-30D2-4764-A9E7-A897E1B8A9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5E56-F16F-4D2E-BAE0-FEAAEBEE5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F00A-7BF7-4A3A-BB6A-FF6DD14E0E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2808-7B8C-4B6B-9350-402E498025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0CE1-5B9C-4AB1-B3D1-99D6DB54FF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04960" y="2567160"/>
            <a:ext cx="573408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2231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8620200" cy="125748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52232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372440" cy="19526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4873680" y="201780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7581960" y="206064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4197240" y="27082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7539120" y="27082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7"/>
          <a:stretch/>
        </p:blipFill>
        <p:spPr>
          <a:xfrm>
            <a:off x="1879560" y="42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8"/>
          <a:stretch/>
        </p:blipFill>
        <p:spPr>
          <a:xfrm>
            <a:off x="4557600" y="42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9"/>
          <a:stretch/>
        </p:blipFill>
        <p:spPr>
          <a:xfrm>
            <a:off x="7726320" y="42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0"/>
          <a:stretch/>
        </p:blipFill>
        <p:spPr>
          <a:xfrm>
            <a:off x="2225520" y="479736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1"/>
          <a:stretch/>
        </p:blipFill>
        <p:spPr>
          <a:xfrm>
            <a:off x="4903920" y="4869000"/>
            <a:ext cx="1036440" cy="5061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2"/>
          <a:stretch/>
        </p:blipFill>
        <p:spPr>
          <a:xfrm>
            <a:off x="7885080" y="4869000"/>
            <a:ext cx="10796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719280"/>
            <a:ext cx="8544240" cy="5419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812000" y="3573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812000" y="42354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885080" y="5589720"/>
            <a:ext cx="6476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19200" y="1819440"/>
            <a:ext cx="7905600" cy="3219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7451640" y="3141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7524720" y="449424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76801" descr=""/>
          <p:cNvPicPr/>
          <p:nvPr/>
        </p:nvPicPr>
        <p:blipFill>
          <a:blip r:embed="rId1"/>
          <a:stretch/>
        </p:blipFill>
        <p:spPr>
          <a:xfrm>
            <a:off x="409680" y="738360"/>
            <a:ext cx="8324640" cy="571500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76802" descr=""/>
          <p:cNvPicPr/>
          <p:nvPr/>
        </p:nvPicPr>
        <p:blipFill>
          <a:blip r:embed="rId2"/>
          <a:stretch/>
        </p:blipFill>
        <p:spPr>
          <a:xfrm>
            <a:off x="1055520" y="1682640"/>
            <a:ext cx="3515040" cy="200988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76803" descr=""/>
          <p:cNvPicPr/>
          <p:nvPr/>
        </p:nvPicPr>
        <p:blipFill>
          <a:blip r:embed="rId3"/>
          <a:stretch/>
        </p:blipFill>
        <p:spPr>
          <a:xfrm>
            <a:off x="5450040" y="1560600"/>
            <a:ext cx="2885760" cy="176220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76807"/>
          <p:cNvGrpSpPr/>
          <p:nvPr/>
        </p:nvGrpSpPr>
        <p:grpSpPr>
          <a:xfrm>
            <a:off x="1042920" y="3741840"/>
            <a:ext cx="4071960" cy="2685960"/>
            <a:chOff x="1042920" y="3741840"/>
            <a:chExt cx="4071960" cy="2685960"/>
          </a:xfrm>
        </p:grpSpPr>
        <p:pic>
          <p:nvPicPr>
            <p:cNvPr id="933" name="图片 76804" descr=""/>
            <p:cNvPicPr/>
            <p:nvPr/>
          </p:nvPicPr>
          <p:blipFill>
            <a:blip r:embed="rId4"/>
            <a:stretch/>
          </p:blipFill>
          <p:spPr>
            <a:xfrm>
              <a:off x="1447920" y="3741840"/>
              <a:ext cx="3666960" cy="26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1" descr=""/>
            <p:cNvPicPr/>
            <p:nvPr/>
          </p:nvPicPr>
          <p:blipFill>
            <a:blip r:embed="rId5"/>
            <a:stretch/>
          </p:blipFill>
          <p:spPr>
            <a:xfrm>
              <a:off x="1042920" y="4681440"/>
              <a:ext cx="647640" cy="50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5" name="组合 76809"/>
          <p:cNvGrpSpPr/>
          <p:nvPr/>
        </p:nvGrpSpPr>
        <p:grpSpPr>
          <a:xfrm>
            <a:off x="6127920" y="3322800"/>
            <a:ext cx="2765160" cy="3105000"/>
            <a:chOff x="6127920" y="3322800"/>
            <a:chExt cx="2765160" cy="3105000"/>
          </a:xfrm>
        </p:grpSpPr>
        <p:pic>
          <p:nvPicPr>
            <p:cNvPr id="936" name="图片 76805" descr=""/>
            <p:cNvPicPr/>
            <p:nvPr/>
          </p:nvPicPr>
          <p:blipFill>
            <a:blip r:embed="rId6"/>
            <a:stretch/>
          </p:blipFill>
          <p:spPr>
            <a:xfrm>
              <a:off x="6127920" y="3322800"/>
              <a:ext cx="21333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1" descr=""/>
            <p:cNvPicPr/>
            <p:nvPr/>
          </p:nvPicPr>
          <p:blipFill>
            <a:blip r:embed="rId7"/>
            <a:stretch/>
          </p:blipFill>
          <p:spPr>
            <a:xfrm>
              <a:off x="8245440" y="4437000"/>
              <a:ext cx="647640" cy="50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304920" y="480960"/>
            <a:ext cx="8534160" cy="58960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4140360" y="1512720"/>
            <a:ext cx="4319280" cy="506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3924360" y="2133720"/>
            <a:ext cx="4319640" cy="5061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3924360" y="2795760"/>
            <a:ext cx="4319640" cy="506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4572000" y="4437000"/>
            <a:ext cx="4319640" cy="506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4824360" y="5099040"/>
            <a:ext cx="4319640" cy="506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4643280" y="5734080"/>
            <a:ext cx="4319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7352" descr=""/>
          <p:cNvPicPr/>
          <p:nvPr/>
        </p:nvPicPr>
        <p:blipFill>
          <a:blip r:embed="rId1"/>
          <a:stretch/>
        </p:blipFill>
        <p:spPr>
          <a:xfrm>
            <a:off x="419040" y="2395440"/>
            <a:ext cx="8305920" cy="20671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3203640" y="2549520"/>
            <a:ext cx="5400720" cy="506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3189240" y="3213000"/>
            <a:ext cx="5400720" cy="506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3132000" y="3860640"/>
            <a:ext cx="5400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295200" y="709560"/>
            <a:ext cx="8553600" cy="54388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527640" cy="506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971640" y="2924280"/>
            <a:ext cx="3527280" cy="506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539640" y="3587760"/>
            <a:ext cx="352764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395280" y="4292640"/>
            <a:ext cx="3527280" cy="506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4788000" y="2233440"/>
            <a:ext cx="3527280" cy="506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5003640" y="2924280"/>
            <a:ext cx="3527640" cy="5061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4932360" y="3645000"/>
            <a:ext cx="3527280" cy="506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4859280" y="4292640"/>
            <a:ext cx="3527640" cy="506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0"/>
          <a:stretch/>
        </p:blipFill>
        <p:spPr>
          <a:xfrm>
            <a:off x="611280" y="4956120"/>
            <a:ext cx="835344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1"/>
          <a:stretch/>
        </p:blipFill>
        <p:spPr>
          <a:xfrm>
            <a:off x="395280" y="5603760"/>
            <a:ext cx="83534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5300" descr=""/>
          <p:cNvPicPr/>
          <p:nvPr/>
        </p:nvPicPr>
        <p:blipFill>
          <a:blip r:embed="rId1"/>
          <a:stretch/>
        </p:blipFill>
        <p:spPr>
          <a:xfrm>
            <a:off x="299880" y="985680"/>
            <a:ext cx="8544240" cy="4886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900000" y="2506680"/>
            <a:ext cx="806472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755640" y="3198960"/>
            <a:ext cx="8064360" cy="5061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755640" y="3875040"/>
            <a:ext cx="8064360" cy="506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8064360" cy="506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611280" y="5157720"/>
            <a:ext cx="8064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4276" descr=""/>
          <p:cNvPicPr/>
          <p:nvPr/>
        </p:nvPicPr>
        <p:blipFill>
          <a:blip r:embed="rId1"/>
          <a:stretch/>
        </p:blipFill>
        <p:spPr>
          <a:xfrm>
            <a:off x="290520" y="682560"/>
            <a:ext cx="8562960" cy="5915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676764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971640" y="4797360"/>
            <a:ext cx="6767280" cy="506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900000" y="5430960"/>
            <a:ext cx="8064720" cy="5061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900000" y="6078600"/>
            <a:ext cx="8064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45:1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